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97EE-FD0F-4034-ADAC-5DA34A1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9AB6-86E0-4336-82B3-222AF71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F535-EF8B-4BC9-A2C9-71BC8693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7747-DFAE-4C4D-A220-72C4BD09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4B02-8192-49A2-B213-828EC4BB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931F-3F7E-4EF4-9E69-6F5B280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28E3-0475-4A99-B10C-4091FB20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887-AF85-47F3-B1B0-8BB88F1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639B-926A-4D8A-9ACE-FF63822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33F5-2397-462F-BE38-0504651A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21E-1A06-4BB3-9CBD-245C289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AC85-B2AE-4777-B9D0-E24FE49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2E1C-C716-4864-9264-91BC77C5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833-7C95-4D07-897D-8AF28BD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D864-8B2A-4B6B-89AD-E3FF1BE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881-90F9-4076-AC0E-9841B8EB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12D2-9830-4979-93E5-19ED94E2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5AE8-D877-4F53-9F08-E7B1A22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89BB-1828-4466-A5A3-58CFFC1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4041-46DA-4BBB-9693-594AEC7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8D87-B8C4-420A-9DF2-A7EC388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E93D-BAFE-430C-93C5-82233F6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5948-20C9-411A-A8AC-B8B7E9F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B01D-E5A4-4D43-AD6B-BD85D49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4D9C-BF1E-43F6-BE1F-07EC8FB77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AE36-744C-4202-9798-786B3B5E2D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fdef6"/>
                </a:solidFill>
                <a:latin typeface="Arial"/>
              </a:rPr>
              <a:t>Redoxrektionen und Oxidationszahle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Rike und L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Überb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lärung allgemeiner Begr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oxreak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xidationsza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ederho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fga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Prot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he Ladung haben Elektron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sagt die Hauptgruppe über ein Atom a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viele Elektronen sich in der äußerst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z befi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lektronegativitä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igt, mit welcher Kraft ein Atom Elektron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sich binden k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erklärung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ie ist die EN von Aluminiu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Elektronenpaar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sich mehrere Atome ei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lektronenpaar/mehrere Elektronenpaare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teil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-Differenz ist kleiner als 1,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H2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as ist eine Ionenbindu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indung, bei der die EN-Differenz zwischen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en beteiligten Atomen größer als 1,5 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spiel: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Wo im PSE findet man Metal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Oxid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Sau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gab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Wass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Redu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ine Redu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ktion mit Wasserstoff (einfa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fnahme von Elektr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paltung von Sauerstoff (biologisch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Redoxreak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ist eine Redox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nahme und Abgabe von Elektronen innerhalb einer Rea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und Reduktion sind immer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einander gekopp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spiel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 + 2e-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Arial"/>
              </a:rPr>
              <a:t>2Cl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de-DE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+  2Cl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Oxidationsz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Ionenbindungen ist es kein Problem, positive und negative Ladungen zuzuord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Elektronenpaarbindungen schreibt man das/die Elektron/en dem Atom zu, das die höhere Elektronegativität 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Kapitel 8.2 , S.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große Tafelwerk - interaktiv, Cornelsen, S. 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ww.wikipedia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4:32:51Z</dcterms:created>
  <dc:creator>Eggert</dc:creator>
  <dc:description/>
  <dc:language>en-US</dc:language>
  <cp:lastModifiedBy>Rike</cp:lastModifiedBy>
  <dcterms:modified xsi:type="dcterms:W3CDTF">2007-02-14T20:20:16Z</dcterms:modified>
  <cp:revision>8</cp:revision>
  <dc:subject/>
  <dc:title>Redoxrektionen und Oxidationszahlen</dc:title>
</cp:coreProperties>
</file>